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A307-B460-4510-9602-2DE3F786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5572-1421-42FB-82EA-9AF49E8F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EA81-6D43-45C8-967A-AC0B4A16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E8A-5597-4CA8-A8E1-C3FB3266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56D3-9D99-44E8-A07E-FC9C33CC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5357-4B96-4AA8-A75D-F248A013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3E2A-7FAE-437C-9553-D8593142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2717-6241-4FFC-8B36-D8851BAC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293A-2E27-47F3-9043-3F451D5A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8778-4327-415F-A92A-56A79987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4DFC-301E-4398-A308-259DDF9D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B61-D07F-44D5-8FBB-510EA9DE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7DE3-4BFC-4681-956B-A0FE619A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313E-E5C3-48F8-8D76-48583FB6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D1A9-4A40-47A6-97C6-0246AA64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71EC-B0F3-4B44-872F-E6535D2A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8E44-82D6-42F3-8F0A-33B13B0C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1F07-373A-4FE9-A48F-44C348D7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608-A182-4F0E-B7F8-42E7848B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3B1-0F46-457E-8E09-4D782731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06DD-521F-439E-93CD-8486B319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45C-2D9D-4E85-AD04-AD3B92F2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5285-1777-4737-B90B-34F2AB21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4B5-AF39-4A8A-A063-EDCC0701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4DD2-99FE-4203-B64B-470FE1CDC4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370D-235C-4CCB-8DAB-567B314716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225360" y="1044720"/>
            <a:ext cx="952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e Psychic Cicada”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8160" y="297180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Riv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24382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24382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4382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24382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4382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24382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7596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10760" y="2057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5324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244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7800" y="2057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8584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124080" y="2895480"/>
            <a:ext cx="2140200" cy="3200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84040" y="2819520"/>
            <a:ext cx="2401920" cy="2743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562720" y="2819520"/>
            <a:ext cx="3047760" cy="2460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14400" y="304920"/>
            <a:ext cx="585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icada is a large-bodied, dark-colored, flying insect wi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 long, transparent wings and large ey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362320" y="2057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2057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2057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2057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057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2057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36640" y="164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76160" y="1641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62320" y="164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7760" y="1641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10240" y="164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1520" y="1676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400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43240" y="1641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48120" y="2438280"/>
            <a:ext cx="361476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8280" y="0"/>
            <a:ext cx="746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les make a shrill, buzzing call by vibr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drum-like membranes (called tymbals or tympa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vering hollow chambers on the abdomen using musc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usually do this while perching high up in tre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362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2362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44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8616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7616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668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57240" y="202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5320" y="202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3376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244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16000" y="2738520"/>
            <a:ext cx="3165480" cy="3585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20920" y="345960"/>
            <a:ext cx="46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make vocal; utter; articulate; s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2286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2286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824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632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25280" y="1870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0512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4356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1024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70880" y="18702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905280" y="2762280"/>
            <a:ext cx="2800440" cy="2800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143000" y="3124080"/>
            <a:ext cx="232740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826000" y="2700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lb shaped; bul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2362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2362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24680" y="2362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328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14840" y="1946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0400" y="19810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112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1112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2200" y="198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8880" y="198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22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3844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091040" y="2786040"/>
            <a:ext cx="2476440" cy="3309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149640" y="34596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doub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4040" y="179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76040" y="179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2320" y="179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1028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33640" y="179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78160" y="1793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095720" y="2952720"/>
            <a:ext cx="3828960" cy="3828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21640" y="193680"/>
            <a:ext cx="69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orcerer believed by many Middle American Indi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be capable of transforming itself i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imal for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380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1828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1828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828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1828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386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2520" y="14479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3060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4120" y="144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52120" y="1413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548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34960" y="141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388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240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390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057560" y="2738520"/>
            <a:ext cx="2727360" cy="3662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590920" y="60948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ious or earn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76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808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810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195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3000" y="209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5724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1936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5744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962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7640" y="2098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086360" y="2809800"/>
            <a:ext cx="2340000" cy="2981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819520" y="5335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large portion of the 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4-21T15:50:27Z</dcterms:modified>
  <cp:revision>15</cp:revision>
  <dc:subject/>
  <dc:title>No Slide Title</dc:title>
</cp:coreProperties>
</file>